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633F-F37F-48EA-88CB-1043F5BFA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neogenesis == making new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effect, photosynthesis is respiration run backwards powered by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ains little energy because it is fully oxid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a series of steps to synthesize a stable energy storag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P = ribulose bis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isco = ribulose bisphosphate carbox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A = phosphoglyc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AL = phosphoglyceraldehy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CBEA-5830-4F70-84E7-B439F1C68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FF2F-BC2D-4192-A940-9FC898A6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4F93-6A90-4F78-9DA2-E459711B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B8D7-E10A-473B-8EDC-BC37D3C357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A925-84B0-4D66-A4E1-11A6A8D2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66B4-7A9E-46DE-B9BB-AFA0A871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A5AA-3479-4D10-818D-C9722505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0A3B-0369-4035-9280-15967F22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F2CE-95D2-4C17-8F7A-C7D6B941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402F-9727-4A43-83D4-354A7E45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7811-8C43-439A-8960-1A724802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33AC-27C6-4838-9D6D-4593C3C3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2E29-D755-4AD3-93E8-62ACB19AEC1E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2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6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Dr.%20Block/My%20Documents/Dr%20Blocks%20Stuff/AP%20Bio%20Stuff/Campbell%20Related/Animations/Chap.%2010%20-%20CalvinCycle.swf" TargetMode="External"/><Relationship Id="rId2" Type="http://schemas.openxmlformats.org/officeDocument/2006/relationships/hyperlink" Target="file:///C:/Documents%20and%20Settings/Dr.%20Block/My%20Documents/Dr%20Blocks%20Stuff/AP%20Bio%20Stuff/Campbell%20Related/Animations/Chap.%2010%20-%20CalvinCycle.swf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0" y="3733920"/>
            <a:ext cx="152388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hapter  10.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      The Calvin Cycle</a:t>
            </a:r>
            <a:br>
              <a:rPr sz="3600"/>
            </a:b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Lif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i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819440" cy="114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1435320" cy="256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5BC3-E69B-49DA-9F5A-BF6579B8E878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GA = Phosphoglycer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12 ATP and 12 NADPH are oxidized by PGA to form PGA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GAL = Glyceride 3-Phosphate (a Very Energy Rich Molecule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C:\Documents and Settings\Dr. Block\My Documents\Dr Blocks Stuff\AP Bio Stuff\Campbell Related\Animations\Chap. 10 - </a:t>
            </a:r>
            <a:r>
              <a:rPr b="1" lang="en-US" sz="30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CalvinCycle.swf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638680" y="3581280"/>
            <a:ext cx="1371600" cy="68580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86960" y="608760"/>
            <a:ext cx="1852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110200" y="1539720"/>
            <a:ext cx="380880" cy="838080"/>
            <a:chOff x="5110200" y="1539720"/>
            <a:chExt cx="380880" cy="838080"/>
          </a:xfrm>
        </p:grpSpPr>
        <p:sp>
          <p:nvSpPr>
            <p:cNvPr id="232" name=""/>
            <p:cNvSpPr/>
            <p:nvPr/>
          </p:nvSpPr>
          <p:spPr>
            <a:xfrm>
              <a:off x="5110200" y="15397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10200" y="19969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109760" y="2361600"/>
            <a:ext cx="241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6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9480" y="329256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00920" y="329256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960" y="3656880"/>
            <a:ext cx="1262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21480" y="3656880"/>
            <a:ext cx="124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GAL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100920" y="4511520"/>
            <a:ext cx="380880" cy="1295280"/>
            <a:chOff x="6100920" y="4511520"/>
            <a:chExt cx="380880" cy="1295280"/>
          </a:xfrm>
        </p:grpSpPr>
        <p:sp>
          <p:nvSpPr>
            <p:cNvPr id="240" name=""/>
            <p:cNvSpPr/>
            <p:nvPr/>
          </p:nvSpPr>
          <p:spPr>
            <a:xfrm>
              <a:off x="6100920" y="45115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00920" y="49687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00920" y="54259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460840" y="5774760"/>
            <a:ext cx="176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72320" y="1692360"/>
            <a:ext cx="838080" cy="457200"/>
          </a:xfrm>
          <a:custGeom>
            <a:avLst/>
            <a:gdLst>
              <a:gd name="textAreaLeft" fmla="*/ 112320 w 838080"/>
              <a:gd name="textAreaRight" fmla="*/ 725760 w 8380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13640" y="143172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96720" y="1844280"/>
            <a:ext cx="115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7920" y="3749760"/>
            <a:ext cx="761760" cy="30456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862680" y="4282560"/>
            <a:ext cx="2224440" cy="902880"/>
            <a:chOff x="6862680" y="4282560"/>
            <a:chExt cx="2224440" cy="902880"/>
          </a:xfrm>
        </p:grpSpPr>
        <p:sp>
          <p:nvSpPr>
            <p:cNvPr id="249" name=""/>
            <p:cNvSpPr/>
            <p:nvPr/>
          </p:nvSpPr>
          <p:spPr>
            <a:xfrm>
              <a:off x="6862680" y="4543200"/>
              <a:ext cx="838080" cy="45720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d16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81680" y="4282560"/>
              <a:ext cx="1285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 NAD</a:t>
              </a:r>
              <a:r>
                <a:rPr b="1" lang="en-US" sz="2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73400" y="4695480"/>
              <a:ext cx="1413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 NAD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862680" y="5121000"/>
            <a:ext cx="1967760" cy="902160"/>
            <a:chOff x="6862680" y="5121000"/>
            <a:chExt cx="1967760" cy="902160"/>
          </a:xfrm>
        </p:grpSpPr>
        <p:sp>
          <p:nvSpPr>
            <p:cNvPr id="253" name=""/>
            <p:cNvSpPr/>
            <p:nvPr/>
          </p:nvSpPr>
          <p:spPr>
            <a:xfrm>
              <a:off x="6862680" y="5381640"/>
              <a:ext cx="838080" cy="45684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79920 h 456840"/>
                <a:gd name="textAreaBottom" fmla="*/ 3312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d16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74480" y="512100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AD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73760" y="553320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89400" y="684720"/>
            <a:ext cx="2529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Remember </a:t>
            </a:r>
            <a:br>
              <a:rPr sz="3400"/>
            </a:b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PGAL?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8680" y="1751760"/>
            <a:ext cx="2265480" cy="6116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371600"/>
            <a:ext cx="761760" cy="5105520"/>
          </a:xfrm>
          <a:prstGeom prst="upArrow">
            <a:avLst>
              <a:gd name="adj1" fmla="val 50000"/>
              <a:gd name="adj2" fmla="val 167557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66CF-A144-4D86-A4CD-78C811E36B2B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GAL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d product of Calvin cyc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rich suga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carbon compoun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C3 photosynthesi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GAL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intermedi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GA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carbohydrat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mino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nucleic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EBBD-5440-438C-B615-26504E79E29C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87280" y="455760"/>
            <a:ext cx="6781680" cy="3449520"/>
            <a:chOff x="1187280" y="455760"/>
            <a:chExt cx="6781680" cy="34495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rcRect l="0" t="0" r="0" b="47792"/>
            <a:stretch/>
          </p:blipFill>
          <p:spPr>
            <a:xfrm>
              <a:off x="1187280" y="455760"/>
              <a:ext cx="6781680" cy="34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09440" y="1999440"/>
              <a:ext cx="78408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GA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37320" y="2456640"/>
              <a:ext cx="93960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RuB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187280" y="455760"/>
            <a:ext cx="6705360" cy="6311880"/>
            <a:chOff x="1187280" y="455760"/>
            <a:chExt cx="6705360" cy="631188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1187280" y="455760"/>
              <a:ext cx="670536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371280" y="1890000"/>
              <a:ext cx="78408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GA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04600" y="5394960"/>
              <a:ext cx="95508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99160" y="2347200"/>
              <a:ext cx="93960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RuB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87280" y="457200"/>
            <a:ext cx="6721200" cy="6327720"/>
            <a:chOff x="1187280" y="457200"/>
            <a:chExt cx="6721200" cy="632772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rcRect l="0" t="0" r="0" b="3357"/>
            <a:stretch/>
          </p:blipFill>
          <p:spPr>
            <a:xfrm>
              <a:off x="1187280" y="457200"/>
              <a:ext cx="6721200" cy="632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379200" y="1980360"/>
              <a:ext cx="78408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GA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12520" y="5485320"/>
              <a:ext cx="95508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07080" y="2437560"/>
              <a:ext cx="939600" cy="4291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RuB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BAF7-4B84-4E0C-9796-EB8CDA52A584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352680" y="4273560"/>
            <a:ext cx="2590920" cy="25844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ubisco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zyme which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fix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carb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from atmosphe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ibulose bisphosphate carboxylas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 most important enzyme in the world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t makes life out of ai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finitely the most abundant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185B-BC16-48F2-A3EF-0A71882C162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ccounting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accounting is complicate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turns of Calvin cycle = 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G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GAL 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3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 turn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Calvin cycle = 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6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6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ATP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NADPH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ATP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= left over from light reactions for cell to use elsewhe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5C40-ABE3-4AE5-8E68-37FACE065549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838080" y="3047400"/>
            <a:ext cx="7772400" cy="838800"/>
            <a:chOff x="838080" y="3047400"/>
            <a:chExt cx="7772400" cy="838800"/>
          </a:xfrm>
        </p:grpSpPr>
        <p:sp>
          <p:nvSpPr>
            <p:cNvPr id="287" name=""/>
            <p:cNvSpPr/>
            <p:nvPr/>
          </p:nvSpPr>
          <p:spPr>
            <a:xfrm>
              <a:off x="838080" y="3048120"/>
              <a:ext cx="7772400" cy="7617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914040" y="3047400"/>
              <a:ext cx="7361640" cy="838800"/>
              <a:chOff x="914040" y="3047400"/>
              <a:chExt cx="7361640" cy="838800"/>
            </a:xfrm>
          </p:grpSpPr>
          <p:sp>
            <p:nvSpPr>
              <p:cNvPr id="289" name=""/>
              <p:cNvSpPr/>
              <p:nvPr/>
            </p:nvSpPr>
            <p:spPr>
              <a:xfrm>
                <a:off x="2199960" y="3047400"/>
                <a:ext cx="6075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water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energy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glucose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oxyge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4040" y="3079440"/>
                <a:ext cx="13406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carbo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dioxide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838080" y="3809880"/>
            <a:ext cx="7772400" cy="914400"/>
            <a:chOff x="838080" y="3809880"/>
            <a:chExt cx="7772400" cy="914400"/>
          </a:xfrm>
        </p:grpSpPr>
        <p:sp>
          <p:nvSpPr>
            <p:cNvPr id="292" name=""/>
            <p:cNvSpPr/>
            <p:nvPr/>
          </p:nvSpPr>
          <p:spPr>
            <a:xfrm>
              <a:off x="838080" y="38098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156320" y="3993840"/>
              <a:ext cx="6743160" cy="727560"/>
              <a:chOff x="1156320" y="3993840"/>
              <a:chExt cx="6743160" cy="727560"/>
            </a:xfrm>
          </p:grpSpPr>
          <p:sp>
            <p:nvSpPr>
              <p:cNvPr id="294" name=""/>
              <p:cNvSpPr/>
              <p:nvPr/>
            </p:nvSpPr>
            <p:spPr>
              <a:xfrm>
                <a:off x="1156320" y="40028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548440" y="40028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39600" y="40201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70120" y="40028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657600" y="39938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911840" y="39996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61080" y="40302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06080" y="40302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56720" y="40302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990720" y="1523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king energy &amp; organic molecules from light energy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5BC6-B5EC-42ED-8C95-8AB836D6EBC3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4343400" y="3733920"/>
            <a:ext cx="4533840" cy="29779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f116a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s byproduc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G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163F-1F55-40A5-8BA8-03DCF2474BAF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energy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’s the energy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will the C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will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else is involved that is not listed in this equation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38080" y="1295280"/>
            <a:ext cx="7772400" cy="914400"/>
            <a:chOff x="838080" y="1295280"/>
            <a:chExt cx="7772400" cy="914400"/>
          </a:xfrm>
        </p:grpSpPr>
        <p:sp>
          <p:nvSpPr>
            <p:cNvPr id="312" name=""/>
            <p:cNvSpPr/>
            <p:nvPr/>
          </p:nvSpPr>
          <p:spPr>
            <a:xfrm>
              <a:off x="838080" y="12952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156320" y="1479240"/>
              <a:ext cx="6743160" cy="727560"/>
              <a:chOff x="1156320" y="1479240"/>
              <a:chExt cx="6743160" cy="727560"/>
            </a:xfrm>
          </p:grpSpPr>
          <p:sp>
            <p:nvSpPr>
              <p:cNvPr id="314" name=""/>
              <p:cNvSpPr/>
              <p:nvPr/>
            </p:nvSpPr>
            <p:spPr>
              <a:xfrm>
                <a:off x="115632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4844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39600" y="15055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70120" y="14882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57600" y="14792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11840" y="14850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61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706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45672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4935-1880-4D95-8E73-DBB505224DAA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Whoops! Wrong Calvin…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73720" cy="5380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E613-896E-47DF-938A-E8D8430C4CAC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pporting a biosphe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n global scale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tosynthesis i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important proces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the continuation of life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year photosynthesis synthesizes 160 billion tons of carbohydrat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terotrophs are dependent on plants as food source for fuel &amp; raw materia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rcRect l="11702" t="0" r="9000" b="0"/>
          <a:stretch/>
        </p:blipFill>
        <p:spPr>
          <a:xfrm>
            <a:off x="6400800" y="380880"/>
            <a:ext cx="2666880" cy="2522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2D21-2B3B-4BD7-ACB9-922FEA7392D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poetic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the solid material of every 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pla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s built out of thin ai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the solid material of every 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animal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was built from plant materia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4327560"/>
            <a:ext cx="5943600" cy="1921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n all the cats, dogs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ice, people &amp; elephants…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re really strands of air woven together by sunlight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3749760"/>
            <a:ext cx="1828800" cy="12794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1960 h 1279440"/>
              <a:gd name="textAreaBottom" fmla="*/ 98748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09480" y="3855960"/>
            <a:ext cx="1524240" cy="1067040"/>
            <a:chOff x="609480" y="3855960"/>
            <a:chExt cx="1524240" cy="1067040"/>
          </a:xfrm>
        </p:grpSpPr>
        <p:sp>
          <p:nvSpPr>
            <p:cNvPr id="333" name=""/>
            <p:cNvSpPr/>
            <p:nvPr/>
          </p:nvSpPr>
          <p:spPr>
            <a:xfrm flipH="1">
              <a:off x="609480" y="3855960"/>
              <a:ext cx="1524240" cy="10670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35360" y="405504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air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4F37-3147-4114-A408-667594D78336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BD3E-5FA1-42FE-815C-1B03A406EE8F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what it means to be a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plant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 produce all </a:t>
            </a: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organic molecul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necessary for grow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rbohydrates, 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eins, nucleic acid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 store chemical energy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stable form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be moved around pla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ved for a rainy d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4C0-85CE-4808-A2F9-1EC907AD698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utotroph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3276000"/>
            <a:ext cx="7772400" cy="838800"/>
            <a:chOff x="685800" y="3276000"/>
            <a:chExt cx="7772400" cy="838800"/>
          </a:xfrm>
        </p:grpSpPr>
        <p:sp>
          <p:nvSpPr>
            <p:cNvPr id="117" name=""/>
            <p:cNvSpPr/>
            <p:nvPr/>
          </p:nvSpPr>
          <p:spPr>
            <a:xfrm>
              <a:off x="685800" y="3276720"/>
              <a:ext cx="7772400" cy="7617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61760" y="3276000"/>
              <a:ext cx="7361640" cy="838800"/>
              <a:chOff x="761760" y="3276000"/>
              <a:chExt cx="7361640" cy="838800"/>
            </a:xfrm>
          </p:grpSpPr>
          <p:sp>
            <p:nvSpPr>
              <p:cNvPr id="119" name=""/>
              <p:cNvSpPr/>
              <p:nvPr/>
            </p:nvSpPr>
            <p:spPr>
              <a:xfrm>
                <a:off x="2047680" y="3276000"/>
                <a:ext cx="6075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water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energy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glucose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oxyge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1760" y="3308040"/>
                <a:ext cx="13406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carbo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dioxide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685800" y="4038480"/>
            <a:ext cx="7772400" cy="914400"/>
            <a:chOff x="685800" y="4038480"/>
            <a:chExt cx="7772400" cy="914400"/>
          </a:xfrm>
        </p:grpSpPr>
        <p:sp>
          <p:nvSpPr>
            <p:cNvPr id="122" name=""/>
            <p:cNvSpPr/>
            <p:nvPr/>
          </p:nvSpPr>
          <p:spPr>
            <a:xfrm>
              <a:off x="685800" y="40384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004040" y="4222440"/>
              <a:ext cx="6743160" cy="727560"/>
              <a:chOff x="1004040" y="4222440"/>
              <a:chExt cx="6743160" cy="727560"/>
            </a:xfrm>
          </p:grpSpPr>
          <p:sp>
            <p:nvSpPr>
              <p:cNvPr id="124" name=""/>
              <p:cNvSpPr/>
              <p:nvPr/>
            </p:nvSpPr>
            <p:spPr>
              <a:xfrm>
                <a:off x="1004040" y="42314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96160" y="42314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287320" y="42487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7840" y="42314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5320" y="42224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59560" y="42282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0880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5380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0444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king energy &amp; organic molecules from light energy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8f0f"/>
                </a:solidFill>
                <a:latin typeface="Arial"/>
              </a:rPr>
              <a:t>photo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00FB-1504-454A-B91D-AB87806553A1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Convert solar energy to chemical energy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ADPH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19000" y="2589840"/>
            <a:ext cx="206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41440" y="3275640"/>
            <a:ext cx="38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reducing power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97280" y="4557240"/>
            <a:ext cx="482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c8f0f"/>
                </a:solidFill>
                <a:latin typeface="Symbol"/>
                <a:ea typeface="Symbol"/>
              </a:rPr>
              <a:t>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c8f0f"/>
                </a:solidFill>
                <a:latin typeface="Symbol"/>
                <a:ea typeface="Symbol"/>
              </a:rPr>
              <a:t>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build stuff </a:t>
            </a:r>
            <a:r>
              <a:rPr b="1" i="1" lang="en-US" sz="4600" spc="-1" strike="noStrike">
                <a:solidFill>
                  <a:srgbClr val="0c8f0f"/>
                </a:solidFill>
                <a:latin typeface="Arial"/>
              </a:rPr>
              <a:t>!!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E0F3-2160-414B-81B3-9AAE04AD57A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is that helpful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nt to make C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6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? From what?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at raw materials are availabl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1120" y="3677400"/>
            <a:ext cx="106164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38280" y="5612400"/>
            <a:ext cx="187704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4433760"/>
            <a:ext cx="228600" cy="121932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55616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53360 h 838080"/>
              <a:gd name="textAreaBottom" fmla="*/ 573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2" stAng="-5400000" swAng="-5400000"/>
                <a:lnTo>
                  <a:pt x="0" y="10824"/>
                </a:lnTo>
                <a:arcTo wR="21600" hR="7912" stAng="10800000" swAng="-3263100"/>
                <a:lnTo>
                  <a:pt x="16118" y="21341"/>
                </a:lnTo>
                <a:lnTo>
                  <a:pt x="21600" y="17280"/>
                </a:lnTo>
                <a:lnTo>
                  <a:pt x="16118" y="12701"/>
                </a:lnTo>
                <a:lnTo>
                  <a:pt x="16118" y="15565"/>
                </a:lnTo>
                <a:arcTo wR="21600" hR="7912" stAng="7536900" swAng="3027713"/>
                <a:lnTo>
                  <a:pt x="369" y="9368"/>
                </a:lnTo>
                <a:arcTo wR="21600" hR="7912" stAng="-10564613" swAng="5164613"/>
                <a:close/>
              </a:path>
              <a:path fill="darkenLess" w="21600" h="21600">
                <a:moveTo>
                  <a:pt x="21600" y="0"/>
                </a:moveTo>
                <a:arcTo wR="21600" hR="7912" stAng="-5400000" swAng="-5400000"/>
                <a:lnTo>
                  <a:pt x="0" y="7912"/>
                </a:lnTo>
                <a:arcTo wR="21600" hR="7912" stAng="10800000" swAng="-235387"/>
                <a:lnTo>
                  <a:pt x="369" y="9368"/>
                </a:lnTo>
                <a:arcTo wR="21600" hR="7912" stAng="-10564613" swAng="5164613"/>
                <a:close/>
              </a:path>
            </a:pathLst>
          </a:custGeom>
          <a:solidFill>
            <a:srgbClr val="0f11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65840" y="4371480"/>
            <a:ext cx="135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505728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N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4556160"/>
            <a:ext cx="2133360" cy="9144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duc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6360" y="4738320"/>
            <a:ext cx="2553480" cy="4899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bon fix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D32F-6DAC-4CFB-9186-36885BE2BC8D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C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has very little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ully oxidiz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ains a lot of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duc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dergon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duction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ceeds in many small uphill step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catalyzed by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ecific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ing energy stored in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78FF-05AC-492A-9613-E8BDB540AE8E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Light reactions to 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vin cyc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hloroplast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strom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products of light reactions to drive synthesis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3809880" y="3355920"/>
            <a:ext cx="5334120" cy="3502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DCCB-8A6F-4C6F-A2F3-F618C0A8D0D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000" y="2853360"/>
            <a:ext cx="2765520" cy="1989360"/>
            <a:chOff x="54000" y="2853360"/>
            <a:chExt cx="2765520" cy="1989360"/>
          </a:xfrm>
        </p:grpSpPr>
        <p:sp>
          <p:nvSpPr>
            <p:cNvPr id="160" name=""/>
            <p:cNvSpPr/>
            <p:nvPr/>
          </p:nvSpPr>
          <p:spPr>
            <a:xfrm>
              <a:off x="1828800" y="3962520"/>
              <a:ext cx="990720" cy="53316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00" y="3047760"/>
              <a:ext cx="1314720" cy="897480"/>
            </a:xfrm>
            <a:prstGeom prst="rect">
              <a:avLst/>
            </a:pr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to make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0066"/>
                  </a:solidFill>
                  <a:latin typeface="Arial"/>
                </a:rPr>
                <a:t>glucos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 rot="19608600">
              <a:off x="1294920" y="2933640"/>
              <a:ext cx="838440" cy="1828800"/>
            </a:xfrm>
            <a:custGeom>
              <a:avLst/>
              <a:gdLst>
                <a:gd name="textAreaLeft" fmla="*/ -360 w 838440"/>
                <a:gd name="textAreaRight" fmla="*/ 838440 w 838440"/>
                <a:gd name="textAreaTop" fmla="*/ 360 h 1828800"/>
                <a:gd name="textAreaBottom" fmla="*/ 182952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60" y="11165"/>
                  </a:moveTo>
                  <a:arcTo wR="-8148" hR="-8148" stAng="10645953" swAng="-6190919"/>
                  <a:lnTo>
                    <a:pt x="7869" y="405"/>
                  </a:lnTo>
                  <a:arcTo wR="10800" hR="10800" stAng="-6344965" swAng="6190919"/>
                  <a:lnTo>
                    <a:pt x="24286" y="10195"/>
                  </a:lnTo>
                  <a:lnTo>
                    <a:pt x="20445" y="14398"/>
                  </a:lnTo>
                  <a:lnTo>
                    <a:pt x="16243" y="10556"/>
                  </a:ln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24360" y="1752480"/>
            <a:ext cx="4190760" cy="4648320"/>
            <a:chOff x="3024360" y="1752480"/>
            <a:chExt cx="4190760" cy="4648320"/>
          </a:xfrm>
        </p:grpSpPr>
        <p:sp>
          <p:nvSpPr>
            <p:cNvPr id="164" name=""/>
            <p:cNvSpPr/>
            <p:nvPr/>
          </p:nvSpPr>
          <p:spPr>
            <a:xfrm>
              <a:off x="4959360" y="175248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24360" y="2209680"/>
              <a:ext cx="4190760" cy="4191120"/>
            </a:xfrm>
            <a:prstGeom prst="ellipse">
              <a:avLst/>
            </a:prstGeom>
            <a:noFill/>
            <a:ln w="12708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192720" y="2361240"/>
            <a:ext cx="2432880" cy="764280"/>
            <a:chOff x="6192720" y="2361240"/>
            <a:chExt cx="2432880" cy="764280"/>
          </a:xfrm>
        </p:grpSpPr>
        <p:grpSp>
          <p:nvGrpSpPr>
            <p:cNvPr id="167" name=""/>
            <p:cNvGrpSpPr/>
            <p:nvPr/>
          </p:nvGrpSpPr>
          <p:grpSpPr>
            <a:xfrm>
              <a:off x="6192720" y="2513880"/>
              <a:ext cx="668520" cy="610200"/>
              <a:chOff x="6192720" y="2513880"/>
              <a:chExt cx="668520" cy="610200"/>
            </a:xfrm>
          </p:grpSpPr>
          <p:sp>
            <p:nvSpPr>
              <p:cNvPr id="168" name=""/>
              <p:cNvSpPr/>
              <p:nvPr/>
            </p:nvSpPr>
            <p:spPr>
              <a:xfrm>
                <a:off x="6197400" y="2514600"/>
                <a:ext cx="609120" cy="609480"/>
              </a:xfrm>
              <a:prstGeom prst="ellipse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92720" y="25138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6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6783840" y="2361240"/>
              <a:ext cx="184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nstabl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termediat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778280" y="1219320"/>
            <a:ext cx="1330560" cy="609480"/>
            <a:chOff x="4778280" y="1219320"/>
            <a:chExt cx="1330560" cy="609480"/>
          </a:xfrm>
        </p:grpSpPr>
        <p:grpSp>
          <p:nvGrpSpPr>
            <p:cNvPr id="172" name=""/>
            <p:cNvGrpSpPr/>
            <p:nvPr/>
          </p:nvGrpSpPr>
          <p:grpSpPr>
            <a:xfrm>
              <a:off x="4778280" y="1219320"/>
              <a:ext cx="668520" cy="609480"/>
              <a:chOff x="4778280" y="1219320"/>
              <a:chExt cx="668520" cy="609480"/>
            </a:xfrm>
          </p:grpSpPr>
          <p:sp>
            <p:nvSpPr>
              <p:cNvPr id="173" name=""/>
              <p:cNvSpPr/>
              <p:nvPr/>
            </p:nvSpPr>
            <p:spPr>
              <a:xfrm>
                <a:off x="4807080" y="1219320"/>
                <a:ext cx="60948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78280" y="123300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1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420520" y="1225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90120" y="684720"/>
            <a:ext cx="7511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alvin cycle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(don’t count the carbons!)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20400" y="1904040"/>
            <a:ext cx="1612080" cy="762840"/>
            <a:chOff x="3020400" y="1904040"/>
            <a:chExt cx="1612080" cy="762840"/>
          </a:xfrm>
        </p:grpSpPr>
        <p:sp>
          <p:nvSpPr>
            <p:cNvPr id="180" name=""/>
            <p:cNvSpPr/>
            <p:nvPr/>
          </p:nvSpPr>
          <p:spPr>
            <a:xfrm>
              <a:off x="3992400" y="2057400"/>
              <a:ext cx="60984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020400" y="1904040"/>
              <a:ext cx="1612080" cy="703440"/>
              <a:chOff x="3020400" y="1904040"/>
              <a:chExt cx="1612080" cy="703440"/>
            </a:xfrm>
          </p:grpSpPr>
          <p:sp>
            <p:nvSpPr>
              <p:cNvPr id="182" name=""/>
              <p:cNvSpPr/>
              <p:nvPr/>
            </p:nvSpPr>
            <p:spPr>
              <a:xfrm>
                <a:off x="3963960" y="20566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5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20400" y="1904040"/>
                <a:ext cx="939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RuBP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6325200" y="3961440"/>
            <a:ext cx="1928880" cy="762840"/>
            <a:chOff x="6325200" y="3961440"/>
            <a:chExt cx="1928880" cy="762840"/>
          </a:xfrm>
        </p:grpSpPr>
        <p:grpSp>
          <p:nvGrpSpPr>
            <p:cNvPr id="185" name=""/>
            <p:cNvGrpSpPr/>
            <p:nvPr/>
          </p:nvGrpSpPr>
          <p:grpSpPr>
            <a:xfrm>
              <a:off x="6859440" y="4114080"/>
              <a:ext cx="668520" cy="610200"/>
              <a:chOff x="6859440" y="4114080"/>
              <a:chExt cx="668520" cy="610200"/>
            </a:xfrm>
          </p:grpSpPr>
          <p:sp>
            <p:nvSpPr>
              <p:cNvPr id="186" name=""/>
              <p:cNvSpPr/>
              <p:nvPr/>
            </p:nvSpPr>
            <p:spPr>
              <a:xfrm>
                <a:off x="6864120" y="4114800"/>
                <a:ext cx="60984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59440" y="411408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6325200" y="41907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70000" y="396144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GA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629400" y="5485320"/>
            <a:ext cx="1826640" cy="886320"/>
            <a:chOff x="6629400" y="5485320"/>
            <a:chExt cx="1826640" cy="886320"/>
          </a:xfrm>
        </p:grpSpPr>
        <p:sp>
          <p:nvSpPr>
            <p:cNvPr id="191" name=""/>
            <p:cNvSpPr/>
            <p:nvPr/>
          </p:nvSpPr>
          <p:spPr>
            <a:xfrm>
              <a:off x="6629400" y="5715000"/>
              <a:ext cx="838080" cy="53352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53800" y="594252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53800" y="548532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AT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420440" y="5790960"/>
            <a:ext cx="1126440" cy="914760"/>
            <a:chOff x="4420440" y="5790960"/>
            <a:chExt cx="1126440" cy="914760"/>
          </a:xfrm>
        </p:grpSpPr>
        <p:grpSp>
          <p:nvGrpSpPr>
            <p:cNvPr id="195" name=""/>
            <p:cNvGrpSpPr/>
            <p:nvPr/>
          </p:nvGrpSpPr>
          <p:grpSpPr>
            <a:xfrm>
              <a:off x="4878360" y="6095160"/>
              <a:ext cx="668520" cy="610560"/>
              <a:chOff x="4878360" y="6095160"/>
              <a:chExt cx="668520" cy="610560"/>
            </a:xfrm>
          </p:grpSpPr>
          <p:sp>
            <p:nvSpPr>
              <p:cNvPr id="196" name=""/>
              <p:cNvSpPr/>
              <p:nvPr/>
            </p:nvSpPr>
            <p:spPr>
              <a:xfrm>
                <a:off x="4883040" y="6095880"/>
                <a:ext cx="609120" cy="609840"/>
              </a:xfrm>
              <a:prstGeom prst="ellipse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78360" y="60951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420440" y="57909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831320" y="4037760"/>
            <a:ext cx="1976400" cy="838800"/>
            <a:chOff x="1831320" y="4037760"/>
            <a:chExt cx="1976400" cy="838800"/>
          </a:xfrm>
        </p:grpSpPr>
        <p:grpSp>
          <p:nvGrpSpPr>
            <p:cNvPr id="200" name=""/>
            <p:cNvGrpSpPr/>
            <p:nvPr/>
          </p:nvGrpSpPr>
          <p:grpSpPr>
            <a:xfrm>
              <a:off x="2668320" y="4267080"/>
              <a:ext cx="668520" cy="609480"/>
              <a:chOff x="2668320" y="4267080"/>
              <a:chExt cx="668520" cy="609480"/>
            </a:xfrm>
          </p:grpSpPr>
          <p:sp>
            <p:nvSpPr>
              <p:cNvPr id="201" name=""/>
              <p:cNvSpPr/>
              <p:nvPr/>
            </p:nvSpPr>
            <p:spPr>
              <a:xfrm>
                <a:off x="2697120" y="4267080"/>
                <a:ext cx="60948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668320" y="42807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3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258360" y="4311360"/>
              <a:ext cx="54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31320" y="4037760"/>
              <a:ext cx="95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GAL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298880" y="5515560"/>
            <a:ext cx="2206080" cy="856080"/>
            <a:chOff x="1298880" y="5515560"/>
            <a:chExt cx="2206080" cy="856080"/>
          </a:xfrm>
        </p:grpSpPr>
        <p:sp>
          <p:nvSpPr>
            <p:cNvPr id="206" name=""/>
            <p:cNvSpPr/>
            <p:nvPr/>
          </p:nvSpPr>
          <p:spPr>
            <a:xfrm flipH="1">
              <a:off x="2666160" y="5715000"/>
              <a:ext cx="838440" cy="53352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99040" y="5942520"/>
              <a:ext cx="1203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N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8880" y="5515560"/>
              <a:ext cx="1404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NADPH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33880" y="2589840"/>
            <a:ext cx="1766520" cy="886320"/>
            <a:chOff x="1433880" y="2589840"/>
            <a:chExt cx="1766520" cy="886320"/>
          </a:xfrm>
        </p:grpSpPr>
        <p:sp>
          <p:nvSpPr>
            <p:cNvPr id="210" name=""/>
            <p:cNvSpPr/>
            <p:nvPr/>
          </p:nvSpPr>
          <p:spPr>
            <a:xfrm flipH="1">
              <a:off x="2362320" y="2819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33880" y="304704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3 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62680" y="258984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3 AT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800600" y="2286000"/>
            <a:ext cx="114300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7520" y="2208960"/>
            <a:ext cx="12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bisc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10520" y="1532160"/>
            <a:ext cx="2539800" cy="42912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1. Carbon fix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160" y="4961160"/>
            <a:ext cx="1857240" cy="42912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2. Reduc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0680" y="1837080"/>
            <a:ext cx="2276280" cy="42912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3. Regener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1240" y="1294560"/>
            <a:ext cx="316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bulose bisphosph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9920" y="2818440"/>
            <a:ext cx="1997280" cy="10994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bulos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sphosphat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rboxylas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28240" y="3962520"/>
            <a:ext cx="304920" cy="304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6920" y="3899520"/>
            <a:ext cx="360" cy="43092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962520"/>
            <a:ext cx="304560" cy="304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8120" y="4275360"/>
            <a:ext cx="1047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ucro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cellulo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58200" y="6431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8EBB-CA26-4B8C-821B-2EDF2F0ECA42}" type="slidenum">
              <a:rPr b="0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3:32:31Z</dcterms:created>
  <dc:creator>Kim Foglia</dc:creator>
  <dc:description>All Rights Reserved. Copyright 2003. WD Interactive.</dc:description>
  <cp:keywords>Education Biology Zone Kim Foglia</cp:keywords>
  <dc:language>en-US</dc:language>
  <cp:lastModifiedBy> </cp:lastModifiedBy>
  <cp:lastPrinted>2005-12-09T20:58:19Z</cp:lastPrinted>
  <dcterms:modified xsi:type="dcterms:W3CDTF">2006-11-16T12:41:04Z</dcterms:modified>
  <cp:revision>14</cp:revision>
  <dc:subject>AP &amp; Regents Biology</dc:subject>
  <dc:title>Whoops! Wrong Calvin…</dc:title>
</cp:coreProperties>
</file>